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80D-9941-44B4-B4CF-01B0BCFC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95F-2918-443F-8B55-6128ECE6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636-4F47-4A84-8E9C-6292B84B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577-A18A-4274-A823-42652E25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2180-E15F-45A3-BFD1-746A6B1E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6123-D52E-4D38-BB41-EEDD2E97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B09E-D478-45A0-9560-6EC75512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0ADC-3E43-4F91-B7D1-71F9DB67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2398-5091-4FF5-99FF-867746C2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88E1-8773-45E9-B54B-926E2ED9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3E41-67D8-4BCA-BEF7-0DE8986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3EC-26A8-4B33-BD35-E03CC586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268B-DAE6-451E-B990-C5AF7A0A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25D3-408A-4F6E-B0FD-0830D1C7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14BA-D475-40D2-9FB9-2F09132A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CDCB-300E-446B-8375-38D0E7A1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E671-D60D-4841-9F2A-353BC665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F10-4671-4AA7-8070-A3F73372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464B-755F-467E-8657-AE1A5454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D7E-7683-4C07-ABCB-DC289466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93B-80C6-4921-B432-8C427780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C50-7DBB-4719-8F44-5EAA56AB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A6F-301F-4F3D-8B14-0E5B305F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5B9-6B0E-44A8-95BA-A572CB91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0B0F-1517-45F4-A424-236E77553D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8BF5-657C-41CC-92E9-EF71BB194B7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Aki Istent szereti, az olyan lesz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mint a napfény, mikor ragyog.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 Aki Istent szereti, az olyan lesz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mint a napfény, mikor ragyog.</a:t>
            </a:r>
            <a:endParaRPr b="0" lang="en-US" sz="4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sötét, ha takarja a fényt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em lehet meglátni a napot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emsokára eljön az idő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é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ény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j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ndent beragyog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Aki Istent szereti, az olyan lesz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mint a napfény, mikor ragyog.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 Aki Istent szereti, az olyan lesz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mint a napfény, mikor ragyog.</a:t>
            </a:r>
            <a:endParaRPr b="0" lang="en-US" sz="4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A sok könny még áztat arcokat,</a:t>
            </a:r>
            <a:br>
              <a:rPr sz="4400"/>
            </a:b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és sok ember ember ellen tör,</a:t>
            </a:r>
            <a:br>
              <a:rPr sz="4400"/>
            </a:b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ámde Jézus ott a Golgotán</a:t>
            </a:r>
            <a:br>
              <a:rPr sz="4400"/>
            </a:b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megszerezte békességede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Aki Istent szereti, az olyan lesz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mint a napfény, mikor ragyog.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 Aki Istent szereti, az olyan lesz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mint a napfény, mikor ragyog.</a:t>
            </a:r>
            <a:endParaRPr b="0" lang="en-US" sz="4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ég a Földön dúlnak háborúk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értelmetlen arat a halál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emsokára eljön az idő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kor minden nyugalmat talál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Aki Istent szereti, az olyan lesz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mint a napfény, mikor ragyog.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 Aki Istent szereti, az olyan lesz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mint a napfény, mikor ragyog.</a:t>
            </a:r>
            <a:endParaRPr b="0" lang="en-US" sz="4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86800" y="228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yügyei Tamás</cp:lastModifiedBy>
  <dcterms:modified xsi:type="dcterms:W3CDTF">2005-09-03T22:28:4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